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8.png" ContentType="image/png"/>
  <Override PartName="/ppt/media/image8.jpeg" ContentType="image/jpeg"/>
  <Override PartName="/ppt/media/image23.png" ContentType="image/pn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9.png" ContentType="image/png"/>
  <Override PartName="/ppt/media/image42.jpeg" ContentType="image/jpeg"/>
  <Override PartName="/ppt/media/image12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3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41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144-CE44-4A4A-9440-C0E99A2E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D62-49B7-486E-A569-19A4EC4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7831B-2638-491D-A506-7ABC9DC4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A3BC5-A432-415B-AF2A-6A94CC2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EDD78-AE9A-4AE3-969A-B94C9A89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D8BBC-A50B-43F7-833A-37D8F94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6023-C065-43B8-A547-908C777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7F5AB-2140-4FD0-8E6F-195D18C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E147E-32D5-4DE3-9767-1129E844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F7841-5824-4A34-99AB-9820B14C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26A80-0AEB-48E1-96C3-21116C99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F0DD3-8E6D-4925-93F1-77301C44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3EB-01BE-410B-8137-7855616B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84A54-06CA-4D36-8418-6FD3AE4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1427E-BFFE-4928-A526-AE172A2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AA796-E4B4-4314-A3AE-6B66BD5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17686-2AD5-4EF5-A4AD-0A271A1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23389-22F6-4D3D-BB88-638640C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216DE-14C9-440C-B46D-C8E6097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DD763-04C1-4D80-94FC-E9018DC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A82B4-81E1-4994-BE87-B0CEBA5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3F691-78C7-4C1C-AE04-4B506D3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7E5F9-559E-4B0F-A054-2A017122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DE7-DF68-41A7-9500-9B207E47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C06F2-648F-4F37-B4B9-DB1F964D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F5818-4A80-4D2D-9370-93D69D88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CF654-C00C-4E5A-99EC-C294E18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6A114-08AD-4F46-A596-3370F2F3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17F9B-40E6-476A-ABAA-5E5BBBC0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21F43-C2E1-4011-A4FD-A160CEA9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2E85E-668D-474D-9A24-0ACD3D94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C31F6-D336-4916-85E3-143B7BD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ECA81-6E8A-4BCA-A117-19A09F0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B4CF7-B5E5-4013-8969-646904F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20A7-4D55-443F-A566-B113EE4A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9B4D-D912-46CD-A9E0-55F7279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43FB-44D7-438C-9764-03DE2EDE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1B564-5BDB-4942-A449-4EFCC82F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FE5F7-744C-450C-8DCA-79B2644A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9A5F4-B4FE-4EDE-8A88-ED29F807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F9F9-DEC9-4F3E-B4BD-3CA5CEB6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F9608-C9B3-4970-BA05-8CFC3FE8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58CAE-6C91-4451-80A4-8BDA02F3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B0C8-3D7C-43A3-A3E5-26051919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C94FC-B82A-48FD-91EB-405440D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62BC-F3F8-4199-BCD2-5F06FC4D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17E0C-1C91-4E0A-90A5-40BBD1B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34C92-B894-4728-954D-0C178D7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043B2-BAD6-42BB-B0B7-67EB2F27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91C30-0FBF-4C42-9D03-FA3008B1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80819-9B86-42AE-BD98-5AF60F24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2251-8CDA-40F7-8632-494301C3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EBD0-77CC-4929-ADD5-DA261EE8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230A-5258-4DA1-A45D-7EA02311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4001-141F-4EB3-B8F4-B764630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E97C-BD99-40FF-8AB9-9EC853E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260-171D-4314-A9DE-EEFA14C3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F495-85CF-48F3-9EE6-8104908D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6418-7C35-49C7-BD74-A4EB3EDC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F397-5504-4BA4-A127-A3647C8E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53B0-B088-4AA7-B572-4D2C3C94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CA4-0C11-4731-9D65-73AEDC93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8327-90A9-43DA-816B-C6EDF6AC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1F90-D056-4E02-AF30-0485EEAF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430F-E3D3-4C93-902D-9EAD179E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E656-4B78-4FEB-8A4E-CE0F0B75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CD62-94C4-4498-9238-C5678AD3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320-E8C1-483A-8FDD-D0E5CC09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821A-491F-4C28-8693-6AB5C492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F872-2AB6-4CA3-B9B0-1C7BFA3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C017-D4E6-48AF-BD11-3AF1CF2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CA8B-A362-4416-B879-E71B596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4371-D076-466B-ADF7-64999A9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4AFA-1F81-463E-9BE8-2A46D0D1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F7C8-5883-4BB3-9D19-51649307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0828-FE34-416C-AA19-4C293D87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4E6A-F881-4BC1-A982-A3CF478F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EF18-D42A-46F2-870A-BA98CF7D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598-BFEC-45D4-B599-798AEB8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29244-5003-445F-8B8F-E75192A7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DB98-4FD3-430B-89FF-34F41D36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EB08-A1DE-4D20-8A0F-CA9AF14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6E72-556C-4596-8EA3-BABE631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5C1D-8EE7-406C-9770-C2F0ADC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51FB-048E-488B-B589-BD39F4F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20EF-1555-4EDA-BB86-944F9709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6F58F-831A-4445-8350-FD11BE06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5EF7-794F-44AF-9C00-E4AF8556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6744-3CB1-4D50-94E5-28122D6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A34-64AE-4F36-A908-3F4A1201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2429-74AB-497F-A9B6-EDF7BB5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53FA-EC12-433F-AD4A-D8DC48D4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A1CC2-757E-40A3-912B-E190F65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E848-ED11-4D65-8EE3-EA60E6B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0CBA-E345-49CD-90D8-2D4C13B7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B021-F755-48F5-95F2-51F89CD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7ECB-BEE0-4C11-B34C-8753AD7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2C204-D37E-4BA4-A50F-9F2806D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ABC9-6712-4EF7-BD24-125EEC23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09A8-CDE6-491E-9F2A-CA051CCF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5F7-FD8F-4287-A675-333DF1F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24B71-D066-4C5E-8BB5-101DC281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23A0-79AE-4047-A11C-D027C875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0E5F6-1CA8-4207-8081-6501B2DB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FD29-0779-4EB2-B55E-1F88D1F1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8F3F-321D-422C-9D7F-AD34A0AF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B8B3-C229-453F-8565-8C14016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07CA-3B2A-4F89-9950-3EFDE26D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E860-E34B-48EC-AA63-5BD522C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4E1F-CB3E-4FEC-942B-08A8117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7442E-84CB-41D4-AD06-A5E5F88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683-AAB7-4288-9428-6A5985D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4C891-C487-4217-8C0E-8D6418EC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12198-74AE-4E12-867D-0C879F06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C0498-514E-4E71-B98D-A084AE35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748BD-E6E0-4935-8EFC-1C675DA5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51CC7-A396-47AB-A5AB-D9AB13A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A0128-3EA9-4220-9DE9-FBF1C956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05CF-9423-4165-926A-6B175297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BCBD3-A08D-464B-9697-9B7C82B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B576C-1B35-4CFA-94E4-154DF33F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13D1-AB6F-4349-8D4F-93ABE5E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866-CC24-49E5-B03A-F2369C4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75D0D-67CE-4866-A1C8-5AC4DA7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C992F-E701-465E-B0B7-E59A01B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713D-10AD-4E61-87AE-A3F041F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5407-32BA-4BF2-9895-6267363A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7F62-171E-4468-91BF-A1561B4C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F1B99-E6ED-4510-AD18-868279CB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1B433-192E-44B9-9FFC-3EB49EA9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EF20E-879D-418C-AC6D-9DE96C87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388FF-1CA4-44FE-9473-4FED792D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5866A-FB32-4250-8657-65DF4C54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386-F1C7-45BB-A656-34A09510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6851D-5943-4BF7-903F-11D0C73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737A-37D5-4CDA-86F8-4AC0985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1D74D-D23B-4B3D-928F-B2C49DD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3E13D-541D-4DD9-934E-39ED6C6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DCE5-F10C-4E2F-A10F-61BBD610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A8BC4-86E9-4CEC-9656-A7388F59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C3970-0F47-4602-9B2E-81638286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C2A33-0848-468B-9300-4C3C1D37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5079B-AA88-4FFE-8950-1947886C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86F8D-B035-4408-9B4E-1C6C5739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768-2623-4555-90BB-10EE1021B0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44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45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59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663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67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671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675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9710-A754-4D81-9784-1532FE436D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2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087D-11E0-48E3-AE6D-3F7B063205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7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7553-14CB-45F4-B4E0-4AEFC098E4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64F-AE73-427E-B0AF-0F4EC5F03A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7E29-111E-47D6-BDCA-216D3F7C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3073-68FF-4282-A347-6F2C942A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E868-44FA-46FE-85C8-CAE5AD561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8A2-4E20-4F8B-9E83-3B28B34D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0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0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3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F41-9E20-43C3-9C4B-2DA557D706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E0E0-C15D-4CAA-B58B-FD7EBC4051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60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62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67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73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77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81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85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5E06-EC56-4FDA-90E3-BD88608207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187280" y="0"/>
            <a:ext cx="7561440" cy="73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Verdana"/>
              </a:rPr>
              <a:t>Проект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Verdana"/>
              </a:rPr>
              <a:t>«КАК ПРЕКРАСЕН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Verdana"/>
              </a:rPr>
              <a:t>ЭТОТ МИР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Подготовили учащиеся 6 класс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МОУ СОШ №2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Кушнир Дмитри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Юдина Арин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Кузьмин Григори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Гераськина Ольг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Ли Дании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Зинина Ольг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Verdana"/>
              </a:rPr>
              <a:t>УЧИТЕЛЬ: ЗАХАРОВА Т.В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6913440" cy="52563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5150160" y="616572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гулка по Варшав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9800" cy="5256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411280" y="602136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рогулка на речном трамвайчик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681440" cy="51850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 flipV="1" rot="10800000">
            <a:off x="3995280" y="616500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Праг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5867280" y="981000"/>
            <a:ext cx="2751120" cy="38102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6296040" y="50277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Замок Карлштейн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7253640" y="630864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аг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672000" cy="3600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103640" cy="44179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4572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Католические собо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912000" cy="540072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4514760" y="61545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Чешский Кругл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В КАЗАХСТ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ПРОЕКТ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Verdana"/>
              </a:rPr>
              <a:t>Познакомиться с особенностями природы и бытом населения тех районов мира, в которых мы побывали во время канику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18508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4427640" y="6093000"/>
            <a:ext cx="29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зеро Иссы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48720" cy="475308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3780000" y="5877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портивный комплекс Меде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УТЕШЕСТВИЕ В БЕЛОРУСС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128000" cy="53294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2124000" y="6093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Холмские ворота Брестской крепо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УТЕШЕСТВИЕ В ГЕЛЕНДЖИ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235560" cy="561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-900000" y="-53172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4753080" cy="36003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684360" y="5300640"/>
            <a:ext cx="81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Геленджик – климатический курорт Краснодарского края, находится на берегу Геленджикской бухты Черного мор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К АЗОВСКОМУ МОР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444348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7885080" cy="50418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843280" y="60213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7636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63640" y="6093000"/>
            <a:ext cx="71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зовское море находится на юге Восточно – Европейской равнины, имеет глубину 15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6049800" cy="540072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6443640" y="6491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Ли Дании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В ТУРЦ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153800" cy="717408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 flipH="1">
            <a:off x="1187280" y="4076640"/>
            <a:ext cx="70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83528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35280" cy="400068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105080" cy="36720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5890320" y="59641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рам Афи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4437000"/>
            <a:ext cx="42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уины Геркулесовых воро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4105080" cy="36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0920" y="60930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141800" cy="6165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077080" cy="3168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63512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8000" y="3716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Захоронения султана Оттамана и его семь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4067280" y="3213000"/>
            <a:ext cx="4825800" cy="28800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5235120" y="60865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Черная крепость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0" y="3538440"/>
            <a:ext cx="4535640" cy="331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-1044720" y="1916280"/>
            <a:ext cx="71640" cy="7272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24000" y="1773360"/>
            <a:ext cx="5688000" cy="3168360"/>
          </a:xfrm>
          <a:prstGeom prst="horizontalScroll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187280" y="285264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КАК ЗДОРОВО ПУТЕШЕСТВОВАТЬ 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3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В ПОЛЬШУ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И ЧЕХ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1571760" y="1752480"/>
            <a:ext cx="6000480" cy="335304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5796000" y="5300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арша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1:42:20Z</dcterms:created>
  <dc:creator>555</dc:creator>
  <dc:description/>
  <dc:language>en-US</dc:language>
  <cp:lastModifiedBy>555</cp:lastModifiedBy>
  <dcterms:modified xsi:type="dcterms:W3CDTF">2007-12-16T07:38:10Z</dcterms:modified>
  <cp:revision>53</cp:revision>
  <dc:subject/>
  <dc:title>Слайд 1</dc:title>
</cp:coreProperties>
</file>